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D9BC-3446-4502-945A-9CBF3E060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CD4B-CA20-4615-A1B8-5EDC14434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6721-2036-4A0E-B663-C4EF01A6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4CE-40C1-4E09-B561-635D216A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3D31-252E-4BEB-9EBD-932F3FA9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A3C-BFBA-48DE-8162-0FE84373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1D1F-952B-49DA-9327-AB91D83F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D2C1-9887-405E-8E59-F01070A1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3295-6755-4FF0-B255-2EDC4A20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F350-2AE3-4E4E-A189-ED9A5ECB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8406-83CC-49FB-A7A6-FB5BF9BC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D069-935B-414D-AA2F-E29A1A27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BD38-0975-4022-9DB4-575326E3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9AD-ABB5-42B2-8652-87EAD024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E9B3-D206-46E3-9EDF-C4F1AE29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5049-30E5-4C16-A4E2-FAF409A7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1846-E792-4B0B-B98C-3252A3C4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1015-A0B9-41DB-89B5-2B11CED5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68A5-EA80-40F2-B227-1F945973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D998C-A37D-46E2-9E44-D0B1A59A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3EE11-FE0E-41E6-9EDF-E9B6FAFA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F5C98-2033-4BA6-85FB-F3A185F1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5CE11-C7A9-4D76-8875-A862F830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23DE3-DC34-4617-BDA5-4657F2E2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BFC-3B82-498D-A8E4-0365313F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15E3C-E504-4179-B745-2A87E407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59743-1DDB-4439-BDEF-4AE9E6AE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089F9-41B5-417D-911E-0D798797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75515-B8EC-4F48-A6B4-E3B54631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0BAB4-F488-4D4D-941A-FA325C82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83055-FA70-4C35-A270-22439B7A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4D060-D84A-4404-A39D-DBFA1DDD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70D04-B769-4F11-A4C3-F31DEC5C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A6AEC-527D-49CE-B48B-DAFE3641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04F77-A9D8-4BF8-A7C8-B6E5BE55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450-5752-40FC-BD85-DD9F3FAB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7938A-A149-4441-A036-53967166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E22AD-D9CD-4C2C-A26A-4C14A5B0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92599-7CE3-4C2D-9599-D727AA8F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10984-E8DC-499E-95E0-F481E335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80044-4453-4503-A13A-B53DB47B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A7823-EE78-4DBF-97AD-F5DFF80F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64B1F-497F-4054-8015-64268B4A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376CF-20E2-4AE5-9770-D26EFC5E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86C74-E368-4004-B030-7621001C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B67B9-9162-4939-A6AB-BEA4B882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737-A971-4A10-AE91-53EFDD53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2EC7C-09D4-427F-9BA2-C914C038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DB223-3BB5-4EB2-A484-EECC74B3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41167-E25F-4BCC-BDDF-5F6E4D4D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13688-9DDC-4E85-BE13-28B0A842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76BE9-0176-4C61-B560-32099AC1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EE10E-F364-4564-9C57-3122B90B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FD50B-4F04-4917-A76D-26AB9C1F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BD1FE-48AC-4409-9F16-60C9B2E8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24C34-0643-4EE4-896C-4A885FFF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E3835-FA7C-4110-B0CC-179254FB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06A-DFF8-4653-88A1-9CD0992E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3CA9A-6335-4BD7-9A68-C9D0FF78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4D6A6-7ECE-456F-A9D7-A16372AF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2DEFF-9B00-475D-96EA-F64D9162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F9BCC-0E1D-46A5-8E2F-DD4B69E6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CBB56-4CA2-4E89-9E77-443A777B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06E2D-8300-4BD2-8585-C0E3CE6D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86E8B-30B6-4E5E-9F81-37A2DA1E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93838-4C42-4EC8-8524-BC0450FF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2C9B6-98FB-4577-BD85-746F6878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F2364-34D5-4B28-BB50-B55B516A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1EF-4BB1-490D-A6CE-540876AE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F9B3F-5D7B-4AD5-836C-7E52F622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E1DF0-353B-4AE8-A436-10A276DE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5CC5B-3A7E-4D07-96FF-2E55E903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55C79-0F35-4681-BF3C-415F2E9D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6547D-F1D3-4319-B3A5-5C8284C7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ACDC3-F307-4456-AEB0-0E49FF1D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7D5D6-62E9-4919-9B2D-3D4AA986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C0E62-EB14-4970-A22F-B39EA523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E4D1D-E83B-48C2-A6C3-D9B8E804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CD9F9-75D2-4CAC-9F15-1F6DB5C1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AAEA-77B1-4478-A4EE-7DC25006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EECE4-16C3-4121-B834-6AE74429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97F3D-E81B-4FBE-A7FE-D6472EA6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3E835-158F-4EE5-B1F4-F13C7683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B2B9A-05A9-45E7-8B73-AFF6F930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2C679-9447-4EC2-9927-A8390A6D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254F1-E8A6-4DD0-980B-66607583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33359-AC08-4CA5-9DA2-C27B665F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C9878-D540-49AC-B9ED-4FCFF7CC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5E67C-1FE7-48AB-AEEA-BBB893FC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250FD-80AB-4B51-A8B6-836BB109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571B-38C8-40B7-A094-978B872D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7D7E1-F274-4AC6-A09F-9D06BC9D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C6BBC-7684-4B6F-9253-581707A8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E0985-565E-4A2B-9D3E-3CEB3DDE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04483-885F-41BA-89A1-AB97A56D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334B0-44BE-43E2-8DBB-1B2FD556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DEC8D-20E0-43E7-A03D-5EE09D25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4DEA1-10CE-4C9B-B643-6F0FF058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BFA4-8646-4CCF-91F6-D4508C621F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6359-5621-4FE6-91B5-BF83586CB6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1EA5-CE88-4076-8CBC-917E42532F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E6B9-F75D-4AC0-8CC2-1DA3CDA103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5882-1328-4C88-BB53-F68864C358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8A82-5BA9-466E-9EF6-F19C367742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0BC3-0D1C-4E2A-B710-E00FB77F15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1E83-2122-4BBA-8FF2-646763CA44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384200"/>
            <a:ext cx="8205840" cy="22129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64646"/>
                </a:solidFill>
                <a:latin typeface="Lucida Sans Unicode"/>
              </a:rPr>
              <a:t>Team Five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64646"/>
                </a:solidFill>
                <a:latin typeface="Lucida Sans Unicode"/>
              </a:rPr>
              <a:t>Dominique Carroll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64646"/>
                </a:solidFill>
                <a:latin typeface="Lucida Sans Unicode"/>
              </a:rPr>
              <a:t>Julia Pressley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64646"/>
                </a:solidFill>
                <a:latin typeface="Lucida Sans Unicode"/>
              </a:rPr>
              <a:t>Rebecca Frusciante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64646"/>
                </a:solidFill>
                <a:latin typeface="Lucida Sans Unicode"/>
              </a:rPr>
              <a:t>Jessica McCollum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veloping academic language and background knowledge to succeed in mainstream clas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fferentiating instruction across proficiency leve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grating students’ native languag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grating authentic materials and perspectives of native speakers of the target langu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veloping an audience and purpose for assignm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7058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pport for authentic oral and written practi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pport for practice in language subski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sentation ai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pport for text produ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rtual field trips for modified language immersion experienc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rtual Collabora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ductivity and lesson design support for teach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uter-assisted language learning(CALL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 strategy that utilizes a variety of technology-based tools to support both ESL and foreign language learners in and out of clas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glish as a second language(ES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ates a student who is learning English after achieving proficiency in another native languag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eign Language(F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 target language, or language of study, spoken mainly in other countrie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istributed language learning(DLL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n online publishing strategy where students share their writings and learn together and work toward common purposes, with possibilities for negotiating form and meaning of language as they progres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English language learn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ndividuals who are learning English as their majority language for everyday uses, employment, and educational purpose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Web-based language learning(WBLL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 strategy in which teacher identifies pertinent web sites and resources for students to use to aid in their learning of a new language and related cultural lesson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7:59:04Z</dcterms:created>
  <dc:creator>Dominique</dc:creator>
  <dc:description/>
  <dc:language>en-US</dc:language>
  <cp:lastModifiedBy>Dominique</cp:lastModifiedBy>
  <dcterms:modified xsi:type="dcterms:W3CDTF">2010-04-07T18:27:26Z</dcterms:modified>
  <cp:revision>3</cp:revision>
  <dc:subject/>
  <dc:title>Chapter 10: Technology in Foreign and Second Language Instruction</dc:title>
</cp:coreProperties>
</file>